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9925050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5AD-C290-42E8-93FF-FFDB59ED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0BF-ECA5-4299-A68F-D048A9D9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7D8-24A6-4007-8F35-0D110858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43A-25F8-4060-B9B9-A6260AA6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69A-7E36-4DF4-AE8F-C35862AA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46D-350A-4D54-BBAE-60CF1466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322-89B4-4B68-9A91-64436E8B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800-E39C-4EE2-BFB1-044297C4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AD5-0A45-4B90-8171-E939331C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C67-E5B8-48ED-A278-8F7A853F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8FD-5288-4A00-92A9-DAF83502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936-2C43-4B7E-818D-6647CECC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536F-F150-4F92-99FB-A503BA208F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143000" y="473040"/>
            <a:ext cx="14203440" cy="1036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icture 6"/>
          <p:cNvSpPr/>
          <p:nvPr/>
        </p:nvSpPr>
        <p:spPr>
          <a:xfrm>
            <a:off x="13501800" y="8586720"/>
            <a:ext cx="1114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1736640" y="4937040"/>
            <a:ext cx="1267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улицам Кемеровского муниципального о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.Трактовая (д. Дмитриев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.Вишневая (д.Сухов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граф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онные зн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о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5857920" y="144288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ОО « СИБДОРПРОЕК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3000240" y="3943440"/>
            <a:ext cx="109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ЕКТ ОРГАНИЗАЦИИ ДОРОЖНОГО  ДВИ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5769000" y="9906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ЕМЕРОВО, 2024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8501040" y="6872400"/>
            <a:ext cx="571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2"/>
          <a:stretch/>
        </p:blipFill>
        <p:spPr>
          <a:xfrm>
            <a:off x="1954080" y="1407960"/>
            <a:ext cx="1332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4:58:01Z</dcterms:created>
  <dc:creator>User2005</dc:creator>
  <dc:description/>
  <dc:language>en-US</dc:language>
  <cp:lastModifiedBy>User</cp:lastModifiedBy>
  <cp:lastPrinted>2023-04-06T06:55:00Z</cp:lastPrinted>
  <dcterms:modified xsi:type="dcterms:W3CDTF">2024-04-23T03:37:01Z</dcterms:modified>
  <cp:revision>67</cp:revision>
  <dc:subject/>
  <dc:title>Презентация PowerPoint</dc:title>
</cp:coreProperties>
</file>